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23B-2BB3-4ACD-814D-894AD006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D2B-7A06-49EA-8932-8BCF99C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08C-3ACE-4B05-A8F2-E7E5B8B4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659-8547-46D8-9E32-519DDDDF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FF1-7432-428F-809A-EAE93C39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5F8-8E32-4923-9C8A-760AC9A2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068B-B231-4886-9EC3-71F79436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2E8-3575-4FF2-A721-ECDDAC02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3ED-BAB2-4BFD-87A0-FE243C46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942-2F43-4F3A-A421-437C5464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F12-402B-4F16-B516-A6721254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654-3CAF-4C86-A6C2-188A498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7F23-0F7A-4EC7-AADC-7D561535B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64000" y="504720"/>
            <a:ext cx="1008000" cy="5212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ff"/>
                </a:solidFill>
                <a:latin typeface="Comic Sans MS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Comic Sans MS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470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1:44:49Z</dcterms:created>
  <dc:creator>moumou</dc:creator>
  <dc:description/>
  <dc:language>en-US</dc:language>
  <cp:lastModifiedBy>moumou</cp:lastModifiedBy>
  <dcterms:modified xsi:type="dcterms:W3CDTF">2007-11-28T13:24:07Z</dcterms:modified>
  <cp:revision>4</cp:revision>
  <dc:subject/>
  <dc:title>Diapositive 1</dc:title>
</cp:coreProperties>
</file>