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B0F-AB8B-4C0C-8859-01525B3B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8DC-A35B-4471-B339-FFB314B5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9B7-7BBA-4F45-A621-83FF0CBE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9EB-083F-4CAC-B4FF-795E6377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124-5A24-4548-85AD-E21C69F8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5DF-ED30-4BCF-B358-94CAE195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74F-647A-4D3F-879E-259DD767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643-0CBE-4081-BA8C-BE302C69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BD9-E16E-4709-BF82-4CCAB298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F45-D09D-4892-A170-87B2FF9D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F54-15D3-4F71-8A53-BFB8F0C3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1FE-3B01-48AA-BA76-E8BD4ADB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F99A-A8A3-40D7-B839-B7B6DA38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000" y="504720"/>
            <a:ext cx="1008000" cy="52120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ff"/>
                </a:solidFill>
                <a:latin typeface="Comic Sans MS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Comic Sans MS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Comic Sans MS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470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1:44:49Z</dcterms:created>
  <dc:creator>moumou</dc:creator>
  <dc:description/>
  <dc:language>en-US</dc:language>
  <cp:lastModifiedBy>moumou</cp:lastModifiedBy>
  <dcterms:modified xsi:type="dcterms:W3CDTF">2007-11-28T13:24:07Z</dcterms:modified>
  <cp:revision>4</cp:revision>
  <dc:subject/>
  <dc:title>Diapositive 1</dc:title>
</cp:coreProperties>
</file>