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01A-48A9-43F5-8F10-AD93AE3C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563-D3DD-48BF-BBAA-CF1622D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F50-E71A-4AD5-928A-84207EEA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DC6-8555-49C2-93CC-D9DCD161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21D-9E9E-412E-BCDE-4CE7489A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BC9-4C09-43DB-B73F-5EEE8FC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E6B-9203-4F9F-AF17-CFC9041D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270-D349-4B44-A9B6-EB3115D8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53E-3151-46C2-BED3-6DC52D78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BE1-568C-4F12-8D63-E003AFA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2C9-8FC9-4B6C-9454-793BF101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9E4-F724-49C5-9D39-679FD0CA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0C7-B353-4652-83A5-3279E60BA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000" y="504720"/>
            <a:ext cx="1008000" cy="5212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ff"/>
                </a:solidFill>
                <a:latin typeface="Comic Sans M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470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44:49Z</dcterms:created>
  <dc:creator>moumou</dc:creator>
  <dc:description/>
  <dc:language>en-US</dc:language>
  <cp:lastModifiedBy>moumou</cp:lastModifiedBy>
  <dcterms:modified xsi:type="dcterms:W3CDTF">2007-11-28T13:24:07Z</dcterms:modified>
  <cp:revision>4</cp:revision>
  <dc:subject/>
  <dc:title>Diapositive 1</dc:title>
</cp:coreProperties>
</file>