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E6C-5957-4FAA-8D8D-782A8D43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8E1-E5D2-44F7-B61B-C5803EA4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C48-C0EE-4CF6-B4AE-9B479788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5F3-2787-45F7-AEC6-0082B6DB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A42-1456-4603-A285-279F7612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D27-178D-4697-A302-FA39B8A9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BB6-540E-4A26-8A3B-02EC1107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474-F150-4E3F-A64E-785663FE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7B6-9868-4A7F-96AA-EF259517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3CE-1FA1-4028-BDF5-BED8841E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BB0-C985-4CE4-8E3D-5E657F11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5CB-C35F-44F2-B142-41A49BFE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31CF-F642-4BB7-BCCF-9858380D2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000" y="504720"/>
            <a:ext cx="1008000" cy="5212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ff"/>
                </a:solidFill>
                <a:latin typeface="Comic Sans MS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omic Sans M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470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1:44:49Z</dcterms:created>
  <dc:creator>moumou</dc:creator>
  <dc:description/>
  <dc:language>en-US</dc:language>
  <cp:lastModifiedBy>moumou</cp:lastModifiedBy>
  <dcterms:modified xsi:type="dcterms:W3CDTF">2007-11-28T13:24:07Z</dcterms:modified>
  <cp:revision>4</cp:revision>
  <dc:subject/>
  <dc:title>Diapositive 1</dc:title>
</cp:coreProperties>
</file>